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2FF-51E0-4DE0-928D-214ED6B0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751-E3DE-49F3-A8FB-0328F6F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B1A-5799-407C-90C3-E2CB7D97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996-C4AB-48A4-ADCA-2295062E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B4B-7F34-416B-9071-2D608706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A50-4977-4048-800F-ABC3B72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33B-48D2-4F6A-AFE7-8F6AC9E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634-B196-46E3-BEDC-D84FA902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AD4-3F22-409F-803C-7DA29093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B3F-A9FC-4EB7-8A36-30F6096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283-B391-43AE-A144-D605F51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788-5F93-439A-ACA0-A70F6A4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E947-49D9-4A6F-A4BF-C171AD9C35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676520"/>
            <a:ext cx="6172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371600"/>
            <a:ext cx="5867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828800" y="1387440"/>
            <a:ext cx="59436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4479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420920"/>
            <a:ext cx="6248160" cy="423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5410080"/>
            <a:ext cx="1295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7:00Z</dcterms:modified>
  <cp:revision>218</cp:revision>
  <dc:subject/>
  <dc:title>Slide 1</dc:title>
</cp:coreProperties>
</file>